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image2.gif" ContentType="image/gif"/>
  <Override PartName="/ppt/media/jetflyby2.wav" ContentType="audio/x-wav"/>
  <Override PartName="/ppt/media/bserie06.wav" ContentType="audio/x-wav"/>
  <Override PartName="/ppt/media/highchime.wav" ContentType="audio/x-wav"/>
  <Override PartName="/ppt/media/hzipup01.wav" ContentType="audio/x-wav"/>
  <Override PartName="/ppt/media/image3.gif" ContentType="image/gif"/>
  <Override PartName="/ppt/media/kid%20yeah.wav" ContentType="audio/x-wav"/>
  <Override PartName="/ppt/media/image1.gif" ContentType="image/gif"/>
  <Override PartName="/ppt/media/caralarmoff.wav" ContentType="audio/x-wav"/>
  <Override PartName="/ppt/media/lzipup01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3E8-A9C9-4A6A-B18C-67379D03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8AA-5BDE-4722-A24A-A1D5DFB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F21-12CC-47DD-9741-B8C4006E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347-D118-4A18-A072-77F784F0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A00-8170-49B3-BFB3-36DE2EA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05D-0D47-4D0B-9B2D-2EEFD7B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C68-0212-4DC9-B9C9-BD2228F3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174-03C2-4DF1-A949-1EAF4ABC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0A3-EA37-493F-9409-02FBB421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192-7011-470F-9A5F-026D5F6E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7A8-B6AE-4E58-A8E6-E6822D8E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792-6EB2-4865-A275-C184A98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238B-FF47-4B73-9C9E-CD27C615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ipdn102.wav"/><Relationship Id="rId12" Type="http://schemas.openxmlformats.org/officeDocument/2006/relationships/audio" Target="../media/highchime.wav"/><Relationship Id="rId13" Type="http://schemas.openxmlformats.org/officeDocument/2006/relationships/audio" Target="../media/zipdn102.wav"/><Relationship Id="rId14" Type="http://schemas.openxmlformats.org/officeDocument/2006/relationships/audio" Target="../media/zapbig0g.wav"/><Relationship Id="rId15" Type="http://schemas.openxmlformats.org/officeDocument/2006/relationships/audio" Target="../media/hzipup01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highchime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highchime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kid%20yeah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ipdn102.wav"/><Relationship Id="rId12" Type="http://schemas.openxmlformats.org/officeDocument/2006/relationships/audio" Target="../media/highchime.wav"/><Relationship Id="rId13" Type="http://schemas.openxmlformats.org/officeDocument/2006/relationships/audio" Target="../media/zipdn102.wav"/><Relationship Id="rId14" Type="http://schemas.openxmlformats.org/officeDocument/2006/relationships/audio" Target="../media/zapbig0g.wav"/><Relationship Id="rId15" Type="http://schemas.openxmlformats.org/officeDocument/2006/relationships/audio" Target="../media/hzipup01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highchime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highchime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kid%20yeah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zipby102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zipby102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920" y="1260360"/>
                <a:ext cx="248292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7640" y="2976480"/>
                <a:ext cx="695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6320" y="3046320"/>
                <a:ext cx="478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79520" y="2971800"/>
                <a:ext cx="479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16120" y="2994120"/>
                <a:ext cx="814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25720" y="316548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08600" y="1274760"/>
            <a:ext cx="51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 common denominator is always the multiplication of the two denomin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2640" y="292104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ross-multiply to get the new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339560" y="1725120"/>
            <a:ext cx="811080" cy="78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3160" y="3745080"/>
                <a:ext cx="477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22160" y="3807000"/>
                <a:ext cx="478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95360" y="3732120"/>
                <a:ext cx="479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46360" y="3754440"/>
                <a:ext cx="814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41560" y="392580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1436760" y="1695240"/>
            <a:ext cx="772920" cy="73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80" y="4481640"/>
                <a:ext cx="69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23960" y="4522680"/>
                <a:ext cx="477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397160" y="4468680"/>
                <a:ext cx="4791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64000" y="4491000"/>
                <a:ext cx="8143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43000" y="464184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92400" y="3941640"/>
            <a:ext cx="515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the new numerators together and put it over the new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5222880"/>
                <a:ext cx="8254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801720" y="5307120"/>
                <a:ext cx="504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284120" y="5230800"/>
                <a:ext cx="827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60560" y="5186520"/>
                <a:ext cx="814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3480" y="540396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71640" y="4962600"/>
                <a:ext cx="9003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590920" y="4983120"/>
            <a:ext cx="1265040" cy="1874880"/>
          </a:xfrm>
          <a:prstGeom prst="ellipse">
            <a:avLst/>
          </a:prstGeom>
          <a:solidFill>
            <a:srgbClr val="ffff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0480" y="1260360"/>
                <a:ext cx="26492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7160" y="2976480"/>
                <a:ext cx="8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101600" y="3046320"/>
                <a:ext cx="478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54200" y="2971800"/>
                <a:ext cx="479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70280" y="2994120"/>
                <a:ext cx="10713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00400" y="316548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008600" y="1274760"/>
            <a:ext cx="51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 common denominator is always the multiplication of the two denomin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0120" y="2921040"/>
            <a:ext cx="44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ross-multiply to get the new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339560" y="1725120"/>
            <a:ext cx="811080" cy="78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7840" y="3745080"/>
                <a:ext cx="477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6840" y="3807000"/>
                <a:ext cx="478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539720" y="3732120"/>
                <a:ext cx="741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68480" y="3754440"/>
                <a:ext cx="1071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16240" y="392580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 flipV="1">
            <a:off x="1436760" y="1695240"/>
            <a:ext cx="772920" cy="73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4200" y="4481640"/>
                <a:ext cx="825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89000" y="4522680"/>
                <a:ext cx="477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71480" y="4468680"/>
                <a:ext cx="479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38320" y="4491000"/>
                <a:ext cx="8146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17680" y="464184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768920" y="4064040"/>
            <a:ext cx="437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ubtract the new numerators together and put it over the new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680" y="5222880"/>
                <a:ext cx="10857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53960" y="5425920"/>
                <a:ext cx="4669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817640" y="5230800"/>
                <a:ext cx="827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444840" y="5186520"/>
                <a:ext cx="7714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666880" y="540396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192480" y="4964040"/>
                <a:ext cx="11574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168720" y="4983120"/>
            <a:ext cx="1265040" cy="1874880"/>
          </a:xfrm>
          <a:prstGeom prst="ellipse">
            <a:avLst/>
          </a:prstGeom>
          <a:solidFill>
            <a:srgbClr val="ffff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7000" y="1477800"/>
                <a:ext cx="276228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1440" y="3840120"/>
                <a:ext cx="82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60400" y="3860640"/>
                <a:ext cx="879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08600" y="3862440"/>
                <a:ext cx="2435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84520" y="4075200"/>
                <a:ext cx="6192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610080" y="3828960"/>
                <a:ext cx="515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26040" y="3849840"/>
                <a:ext cx="517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62400" y="4711680"/>
                <a:ext cx="13572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1080" y="1477800"/>
                <a:ext cx="320652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3680" y="3814920"/>
                <a:ext cx="9810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35200" y="3835440"/>
                <a:ext cx="931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02560" y="3846600"/>
                <a:ext cx="23414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58960" y="3895560"/>
                <a:ext cx="6699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03440" y="3828960"/>
                <a:ext cx="928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92760" y="3875040"/>
                <a:ext cx="984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03520" y="5097600"/>
                <a:ext cx="2997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υ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41520" y="5118120"/>
                <a:ext cx="1807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b/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87880" y="4699080"/>
                <a:ext cx="201456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01640"/>
            <a:ext cx="7405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Paula has 100 stamps in her collection. Jim has 20 stamps. Paula sells 50 stamps. How many stamps does Paula have lef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41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if you can. Tell whether there is too much information or too little information to do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06640" y="3143160"/>
            <a:ext cx="16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tract</a:t>
            </a:r>
            <a:endParaRPr b="0" lang="en-US" sz="24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14240" y="3890880"/>
                <a:ext cx="1341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19240" y="4148280"/>
                <a:ext cx="619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92440" y="3892680"/>
                <a:ext cx="979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754440" y="4098960"/>
                <a:ext cx="619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365720" y="3876840"/>
                <a:ext cx="981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 txBox="1"/>
          <p:nvPr/>
        </p:nvSpPr>
        <p:spPr>
          <a:xfrm>
            <a:off x="1630440" y="4782960"/>
            <a:ext cx="5486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o Much Information</a:t>
            </a:r>
            <a:endParaRPr b="0" lang="en-US" sz="24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65040" y="562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 did not need to know that Jim had 50 sta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30960" y="1552680"/>
            <a:ext cx="2185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72200" y="142416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738440"/>
            <a:ext cx="6535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Rosa did homework for 1 hour after school. Later, she did homework again. How many hours in all did Rosa do homework that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1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if you can. Tell whether there is too much information or too little information to do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06560" y="4309920"/>
            <a:ext cx="5486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o Little Information</a:t>
            </a:r>
            <a:endParaRPr b="0" lang="en-US" sz="24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49200" y="52135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 need to know how long she worked on homework the second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77120" y="1625760"/>
            <a:ext cx="2666880" cy="333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38440"/>
            <a:ext cx="7075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Eric rented two movies from the video store. Each movie cost $3.50 to rent. He watched the movies for two and a half hours. How much did it cost Eric to rent 2 mov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1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if you can. Tell whether there is too much information or too little information to do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62480" y="3638520"/>
            <a:ext cx="16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tiply</a:t>
            </a:r>
            <a:endParaRPr b="0" lang="en-US" sz="24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57480" y="4294080"/>
                <a:ext cx="1376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525840" y="4408560"/>
                <a:ext cx="487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32360" y="4300560"/>
                <a:ext cx="487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00720" y="4484520"/>
                <a:ext cx="531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84640" y="4255920"/>
                <a:ext cx="173196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 txBox="1"/>
          <p:nvPr/>
        </p:nvSpPr>
        <p:spPr>
          <a:xfrm>
            <a:off x="1862280" y="5070600"/>
            <a:ext cx="5486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o Much Information</a:t>
            </a:r>
            <a:endParaRPr b="0" lang="en-US" sz="24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596880" y="59119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 did not need to know that he watched the movies for two and a half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1, 8 – 9 #1 – 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3, 8 – 10 #1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75/7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1-24T14:59:52Z</dcterms:modified>
  <cp:revision>92</cp:revision>
  <dc:subject/>
  <dc:title>Slide 1</dc:title>
</cp:coreProperties>
</file>